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DF5-8EBD-47EC-B94C-FDDC0F5F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1F0-988A-42AA-AA29-24CCF41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B82-ADDE-4087-B99D-7643D8F2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EC4-105D-480D-8FC7-8656115B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D10-A8CD-47F1-9ACA-8DF6638D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9D7-7326-4FDE-B10A-526B2AB1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362-8821-4DF7-B4D8-EEDA7DE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EAA-450A-4AEA-A304-2A1C4FD8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C8C-B222-4FBD-A6C5-C4AB234C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0AA-BB8A-4E77-A574-D7BE6E7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FBC-1A52-4ADD-BF16-61EEF32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F8D-AB04-4387-A51D-3694A2D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11D2-0A9F-45F5-820D-72A62197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6618240"/>
            <a:chOff x="838080" y="87480"/>
            <a:chExt cx="8077320" cy="661824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29098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 rot="16200000">
              <a:off x="1547280" y="2629440"/>
              <a:ext cx="49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9"/>
            <p:cNvSpPr/>
            <p:nvPr/>
          </p:nvSpPr>
          <p:spPr>
            <a:xfrm rot="16200000">
              <a:off x="1701720" y="25534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0"/>
            <p:cNvSpPr/>
            <p:nvPr/>
          </p:nvSpPr>
          <p:spPr>
            <a:xfrm rot="16200000">
              <a:off x="1934640" y="255168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75632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2752560"/>
              <a:ext cx="42782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85316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9"/>
            <p:cNvSpPr/>
            <p:nvPr/>
          </p:nvSpPr>
          <p:spPr>
            <a:xfrm rot="16200000">
              <a:off x="6696360" y="2427120"/>
              <a:ext cx="48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 rot="16200000">
              <a:off x="6817320" y="2354400"/>
              <a:ext cx="63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rot="16200000">
              <a:off x="7042320" y="235044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57440" y="327816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57440" y="626760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37400" y="331164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37400" y="617220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5800" y="20574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5320" y="1905120"/>
              <a:ext cx="13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-51 C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2880" y="3311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5120" y="63007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3400" y="87480"/>
              <a:ext cx="469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with labels (source data 2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7600" y="3265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29840" y="6178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089160" y="430200"/>
              <a:ext cx="2963880" cy="1553400"/>
              <a:chOff x="3089160" y="430200"/>
              <a:chExt cx="2963880" cy="1553400"/>
            </a:xfrm>
          </p:grpSpPr>
          <p:pic>
            <p:nvPicPr>
              <p:cNvPr id="64" name="Picture 77" descr="A picture containing floor&#10;&#10;Description automatically generated"/>
              <p:cNvPicPr/>
              <p:nvPr/>
            </p:nvPicPr>
            <p:blipFill>
              <a:blip r:embed="rId5"/>
              <a:srcRect l="10018" t="17415" r="10548" b="19692"/>
              <a:stretch/>
            </p:blipFill>
            <p:spPr>
              <a:xfrm>
                <a:off x="3549600" y="1362240"/>
                <a:ext cx="900000" cy="284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5" name="Picture 79" descr="A picture containing floor&#10;&#10;Description automatically generated"/>
              <p:cNvPicPr/>
              <p:nvPr/>
            </p:nvPicPr>
            <p:blipFill>
              <a:blip r:embed="rId6"/>
              <a:srcRect l="0" t="29185" r="17407" b="24157"/>
              <a:stretch/>
            </p:blipFill>
            <p:spPr>
              <a:xfrm>
                <a:off x="4495680" y="1360440"/>
                <a:ext cx="898560" cy="285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6" name="TextBox 80"/>
              <p:cNvSpPr/>
              <p:nvPr/>
            </p:nvSpPr>
            <p:spPr>
              <a:xfrm>
                <a:off x="3676680" y="1752480"/>
                <a:ext cx="67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81"/>
              <p:cNvSpPr/>
              <p:nvPr/>
            </p:nvSpPr>
            <p:spPr>
              <a:xfrm>
                <a:off x="4381560" y="1751040"/>
                <a:ext cx="1125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-51 C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82"/>
              <p:cNvSpPr/>
              <p:nvPr/>
            </p:nvSpPr>
            <p:spPr>
              <a:xfrm>
                <a:off x="5489640" y="140508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4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Box 83"/>
              <p:cNvSpPr/>
              <p:nvPr/>
            </p:nvSpPr>
            <p:spPr>
              <a:xfrm>
                <a:off x="5489640" y="119232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Straight Connector 84"/>
              <p:cNvSpPr/>
              <p:nvPr/>
            </p:nvSpPr>
            <p:spPr>
              <a:xfrm>
                <a:off x="5479920" y="15019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94"/>
              <p:cNvSpPr/>
              <p:nvPr/>
            </p:nvSpPr>
            <p:spPr>
              <a:xfrm>
                <a:off x="3109680" y="1398600"/>
                <a:ext cx="45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Act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76" descr="A close up of a person's eyes&#10;&#10;Description automatically generated with medium confidence"/>
              <p:cNvPicPr/>
              <p:nvPr/>
            </p:nvPicPr>
            <p:blipFill>
              <a:blip r:embed="rId7"/>
              <a:srcRect l="2869" t="18161" r="2194" b="23784"/>
              <a:stretch/>
            </p:blipFill>
            <p:spPr>
              <a:xfrm>
                <a:off x="3549600" y="1066680"/>
                <a:ext cx="900000" cy="257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3" name="Picture 78" descr="A close up of a person's eyes&#10;&#10;Description automatically generated with medium confidence"/>
              <p:cNvPicPr/>
              <p:nvPr/>
            </p:nvPicPr>
            <p:blipFill>
              <a:blip r:embed="rId8"/>
              <a:srcRect l="11434" t="19195" r="10559" b="13831"/>
              <a:stretch/>
            </p:blipFill>
            <p:spPr>
              <a:xfrm>
                <a:off x="4495680" y="1066680"/>
                <a:ext cx="898560" cy="2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4" name="Straight Connector 85"/>
              <p:cNvSpPr/>
              <p:nvPr/>
            </p:nvSpPr>
            <p:spPr>
              <a:xfrm>
                <a:off x="5479920" y="13064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86"/>
              <p:cNvSpPr/>
              <p:nvPr/>
            </p:nvSpPr>
            <p:spPr>
              <a:xfrm>
                <a:off x="5298840" y="836640"/>
                <a:ext cx="754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Size (kD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87"/>
              <p:cNvSpPr/>
              <p:nvPr/>
            </p:nvSpPr>
            <p:spPr>
              <a:xfrm rot="16200000">
                <a:off x="3486240" y="69264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88"/>
              <p:cNvSpPr/>
              <p:nvPr/>
            </p:nvSpPr>
            <p:spPr>
              <a:xfrm rot="16200000">
                <a:off x="3708000" y="652680"/>
                <a:ext cx="596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89"/>
              <p:cNvSpPr/>
              <p:nvPr/>
            </p:nvSpPr>
            <p:spPr>
              <a:xfrm rot="16200000">
                <a:off x="3952440" y="63360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90"/>
              <p:cNvSpPr/>
              <p:nvPr/>
            </p:nvSpPr>
            <p:spPr>
              <a:xfrm rot="16200000">
                <a:off x="4427640" y="69120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91"/>
              <p:cNvSpPr/>
              <p:nvPr/>
            </p:nvSpPr>
            <p:spPr>
              <a:xfrm rot="16200000">
                <a:off x="463032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92"/>
              <p:cNvSpPr/>
              <p:nvPr/>
            </p:nvSpPr>
            <p:spPr>
              <a:xfrm rot="16200000">
                <a:off x="488124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93"/>
              <p:cNvSpPr/>
              <p:nvPr/>
            </p:nvSpPr>
            <p:spPr>
              <a:xfrm>
                <a:off x="3089160" y="1096920"/>
                <a:ext cx="47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T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134800" y="114624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5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3:48Z</dcterms:modified>
  <cp:revision>7</cp:revision>
  <dc:subject/>
  <dc:title>Slide 1</dc:title>
</cp:coreProperties>
</file>